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BC6-CF33-4F46-9C9C-7E045093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F2D-9B7E-49F3-BD82-FBE4B8F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F00-DAC5-44E3-8780-3285570B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3F0-F03D-48E3-9530-AC5D70F9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910-01A3-4C1C-846C-BF338C8F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63D-5C10-4C91-9FF4-86D7DCD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767-293A-4FC2-A8A4-0FF768C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362-75C8-4A75-A140-32D8695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299-18B5-4C0E-B577-A08DFDB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DF2-79C7-4F17-A01A-90CDA94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0DF-96CA-4EEB-9DF8-C766992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A65-B3A0-402B-9EB6-9AA916A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C693-FDF7-4D2F-845E-D82039FF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9 Môj Pán a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a kríž kvôli mne si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chcem pre teb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úbohý, vie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mi všetko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ej krvi pomoc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ou smiem sa čistý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túžim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 tebou mať svoj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ôjho blah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tebe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mňa na Golgo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z lásky život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vzdávam tvojej dobro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Záchranca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06:44Z</dcterms:modified>
  <cp:revision>20</cp:revision>
  <dc:subject/>
  <dc:title>Je veľký náš Pán, on slávy je Kráľ Nech do všetkých strán  spev vrúcnych znie chvál.</dc:title>
</cp:coreProperties>
</file>